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DC30D-CE9E-4E55-B2FE-C0183F25F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F0892-7C18-4931-B4D9-2545D3191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351AE-2EB8-4722-9CF9-3A3CEB61B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43E4E-30B2-44E0-8E75-81673EBB6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CEEDA-C968-46BF-B3CC-D21C7E3D4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1662F-7031-4BDB-AB08-9A78BE000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063C1-77DD-4C2E-8233-DFBF48959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764280" y="1484280"/>
            <a:ext cx="730692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ТАТЕЛЬСКОЙ ГРАМОТ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ОДГОТОВКЕ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087920" y="214200"/>
            <a:ext cx="69807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вандыкского городского округа Оренбург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390200" y="3857760"/>
            <a:ext cx="4245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Нестерова И.В., уч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Описание исторического события — 1_page-0001.jpg"/>
          <p:cNvPicPr/>
          <p:nvPr/>
        </p:nvPicPr>
        <p:blipFill>
          <a:blip r:embed="rId1"/>
          <a:stretch/>
        </p:blipFill>
        <p:spPr>
          <a:xfrm>
            <a:off x="3708360" y="189000"/>
            <a:ext cx="484524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Биография личности_page-0001.jpg"/>
          <p:cNvPicPr/>
          <p:nvPr/>
        </p:nvPicPr>
        <p:blipFill>
          <a:blip r:embed="rId1"/>
          <a:stretch/>
        </p:blipFill>
        <p:spPr>
          <a:xfrm>
            <a:off x="3419640" y="333360"/>
            <a:ext cx="54212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Запомни эти факты_page-0001.jpg"/>
          <p:cNvPicPr/>
          <p:nvPr/>
        </p:nvPicPr>
        <p:blipFill>
          <a:blip r:embed="rId1"/>
          <a:stretch/>
        </p:blipFill>
        <p:spPr>
          <a:xfrm>
            <a:off x="3564000" y="0"/>
            <a:ext cx="5086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Мое мнение_page-0001.jpg"/>
          <p:cNvPicPr/>
          <p:nvPr/>
        </p:nvPicPr>
        <p:blipFill>
          <a:blip r:embed="rId1"/>
          <a:stretch/>
        </p:blipFill>
        <p:spPr>
          <a:xfrm>
            <a:off x="3276720" y="333360"/>
            <a:ext cx="52052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Решение проблемы_page-0001.jpg"/>
          <p:cNvPicPr/>
          <p:nvPr/>
        </p:nvPicPr>
        <p:blipFill>
          <a:blip r:embed="rId1"/>
          <a:stretch/>
        </p:blipFill>
        <p:spPr>
          <a:xfrm>
            <a:off x="2987640" y="0"/>
            <a:ext cx="551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Найти доказательства_page-0001.jpg"/>
          <p:cNvPicPr/>
          <p:nvPr/>
        </p:nvPicPr>
        <p:blipFill>
          <a:blip r:embed="rId1"/>
          <a:stretch/>
        </p:blipFill>
        <p:spPr>
          <a:xfrm>
            <a:off x="179280" y="198360"/>
            <a:ext cx="878544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Причина и следствие_page-0001.jpg"/>
          <p:cNvPicPr/>
          <p:nvPr/>
        </p:nvPicPr>
        <p:blipFill>
          <a:blip r:embed="rId1"/>
          <a:stretch/>
        </p:blipFill>
        <p:spPr>
          <a:xfrm>
            <a:off x="250920" y="198360"/>
            <a:ext cx="84978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описание персонажа_page-0001.jpg"/>
          <p:cNvPicPr/>
          <p:nvPr/>
        </p:nvPicPr>
        <p:blipFill>
          <a:blip r:embed="rId1"/>
          <a:stretch/>
        </p:blipFill>
        <p:spPr>
          <a:xfrm>
            <a:off x="250920" y="198360"/>
            <a:ext cx="864216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2920" y="1844640"/>
            <a:ext cx="84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250920" y="357120"/>
            <a:ext cx="8893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Читательская грамотность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ность человека понимать и использовать тексты, размышлять о них и заниматься чтением для того, чтобы достигать своих целей, расширять свои знания и возможности, участвовать в социаль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189000"/>
            <a:ext cx="9144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https://www.i-igrushki.ru/upload/iblock/850/850e67c9931b702d32a96bc8bb1fad68.jpg"/>
          <p:cNvPicPr/>
          <p:nvPr/>
        </p:nvPicPr>
        <p:blipFill>
          <a:blip r:embed="rId1"/>
          <a:stretch/>
        </p:blipFill>
        <p:spPr>
          <a:xfrm>
            <a:off x="1206360" y="3492360"/>
            <a:ext cx="6797880" cy="27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826920" y="512640"/>
            <a:ext cx="7920360" cy="53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11280" y="100080"/>
            <a:ext cx="813744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итательская грамотность включает в себя следующ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читательские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Поиск и извлечение информации и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Понимание информации, сообщенной в тексте, ее интерпре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мышление о содержании текстового сообщения и его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мышление о форме текстового сообщения и ее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Осмысление и оценка информации (критически оценить качество и достоверность информации, обнаружение противоречий), применение полученной информации при решении широкого круга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Ориентация во множественных текстах ( интерпретация и обобщение информации из нескольких отличающихся источни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Умение ориентироваться в современном мире и справляться с новыми появившимися требованиями. Многие тексты связаны с оценкой использования информации в Интернете, в частности, как распознать достоверные сайты и онлайн документы; умение читать текст с гиперссыл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934920" y="1593720"/>
            <a:ext cx="79200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rcRect l="0" t="0" r="3982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684360" y="1186920"/>
            <a:ext cx="76327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екстная 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 это задача мотивационного характера, в условии которой описана конкретная жизненная ситуация, коррелирующая с имеющимся социокультурным опытом учащихся (известное, данное); требованием (неизвестным) задачи является анализ, осмысление и объяснение этой ситуации или выбор способа действия в ней, а результатом решения задачи является встреча с проблемой и осознание её личностной значимости.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611280" y="121320"/>
            <a:ext cx="79214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Описание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 тип текста, информация которого относится к объектам и их пространственным свойс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Повествование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 тип текста, информация которого относится к объектам и их временным свойс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олкование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 тип текста, который дает законченную характеристику понятия в сложном взаимодействии его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уждение –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ип текста, который описывает отношения между утверждениями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нструкция (иногда называемая предписанием, приказом) –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ип текста, который содержит указания к действию и отвечает на вопрос «что делать?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говорный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екст направлен на организацию взаимодействия для достижения обще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826920" y="404640"/>
            <a:ext cx="763272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Формат текста может быть определен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Сплошны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Несплош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Множественные 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Смешанны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Составны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971640" y="2302920"/>
            <a:ext cx="745164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84360" y="503640"/>
            <a:ext cx="806436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остное восприятие и понимание текста, умение анализировать и интерпретировать текст возможно при опоре на следующие виды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знанное, творческое, выразительное чтение художественных произведений разных жан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каз (подробный, краткий, с элементами комментария, с творческим задание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ы на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 и интерпретация произ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ение пла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истика геро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исание отзы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исание сочинен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avkkuv avkkuv</cp:lastModifiedBy>
  <dcterms:modified xsi:type="dcterms:W3CDTF">2022-02-27T18:58:02Z</dcterms:modified>
  <cp:revision>116</cp:revision>
  <dc:subject/>
  <dc:title>Слайд 1</dc:title>
</cp:coreProperties>
</file>